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BE00-1159-4ACB-B69E-019B0F52A8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45EB-1460-44C6-B0C7-945474385AB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ADB8-4659-4AF5-8ACE-D70BA1A9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F32-E326-484E-A135-E01348AD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13DA-280F-4053-AE41-BD4B31AC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A5D3-64B4-40F4-ABC6-A147C0FB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20BE-93A5-4D47-9EDB-9EE52013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C65E-4833-4394-BBED-00875EB4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7BB3-8005-4DFE-A09B-F6A7B238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D54D-E18A-4088-BD49-F13954C8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B670-7434-4B91-A576-9EF181AE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FEB1-E791-44C5-A74A-6DA8D377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B729-62A9-431E-9F07-6D40BE6E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5EE9-7C1E-42C9-8B6F-67F78D51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57EB-4032-489A-B56D-AB7D716E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EB6F-9ABC-4EC5-B6E4-29B5F382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1953-80E1-493E-9CEE-2754A285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09BC-301B-4E4D-A6B1-7A9F5C35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9DB8-A30B-431F-B2C2-3DDE49BE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5B76D-145D-457A-9C9C-CB66B9A5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A71A2-3D88-4B6C-9BA1-C2ED3668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34ACE-ED4F-4E08-A9CF-0D9F7A8B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6F47E-6633-4836-BC35-9C8AC9C9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D0AEF-81E6-4A3A-9BFC-1A0730BE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0D98-CB9F-4B4D-8356-382AEE13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75E11-C523-4128-8545-4ED7EEF2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6A257-B263-48B8-9DE4-354050D1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236D6-1527-4800-835B-85CF41AF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B81E1-B5AB-4E3C-BA14-A6B65D3E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00B75-1C97-43AF-977A-6B034A5A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9A9CF-11FB-4088-BE95-728351F9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189B3-994A-4A2A-B428-C16C42DF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B28D1-3485-4130-B072-4B406081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D4592-D37B-4E86-99A6-E206727A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D4BDF-7EA7-4525-8898-D0606023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53C0-2CEA-469F-BBD9-3308F38C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83487-ABBE-4F8B-BE2D-73D0FE93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42522-3E3C-43D2-AFD6-A766AA84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A9F62-C0DD-455E-9D39-88F4AE3F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7B62E-E78C-4CCD-BD8F-5EA59CE6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7E419-EB92-449F-AF2E-64A2D4D6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5018D-8F88-4100-AB7C-0E31512B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94445-43A1-4EA0-BACB-5A00DD13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902E2-8A85-4BB7-A082-8DFFBE3F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334CD-39EF-447E-9123-0233ED81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7B989-1D52-437B-AB44-05AC59CB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C5FA-CF24-499A-BC30-F92D5795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7C990-B10A-4EDF-A4B7-79E833FB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DCE7A-CDE0-4F37-AFE2-C54CC318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EB6C5-2041-4428-B0EA-88139168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83CE0-3A00-47E7-B319-5D58C64B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2D8CB-6A02-4596-AE8D-01047B74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FCF6C-33C7-48EC-8BDC-F279B506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0B673-C0F0-4295-8637-30728FD9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1BA1F-76AB-4552-B5FB-845DE542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F360D-AD64-4274-AF17-2C1E3323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70314-0C8B-4F54-9ABF-EC283BC9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A2D8-6426-4797-9203-658F0E54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9E26D-E5D8-4117-875A-6659CB62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A051F-1C00-4E67-BE02-D0739AAD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B1351-5388-4B43-A504-FAB914EA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36320-B3FB-47E2-8C9F-41E73DBA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DCFB2-844F-430B-AE56-93BE04A2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E7266-1450-4344-B3EE-389A82EA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5B7FB-C360-460D-B5E4-6D943930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6167F-8218-42A9-BCC1-4C94FBF2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3F49D-EB0F-48EC-AE2F-02DDA97B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5AA8A-333A-45C8-BC86-9F58794E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2788-CA50-4811-8898-B3A4AEB5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2B077-F535-4160-8BF3-0928E13C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6C033-F390-4661-8A4C-5E427CA1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A128D-282E-4060-A949-1E133125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AEFB9-F839-46A8-8BE8-D9F03632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2310B-12BD-40B1-8A8A-EF51173B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36D67-94AE-4576-8275-19BD7E01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B676D-1601-4057-8748-0A6186DC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AEB23-F537-4933-ADB6-D4EC71DE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66544-2766-401F-959C-3F1201D4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A5DBB-543F-4972-822B-22BE4058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67B6-5FBE-44AF-9EA6-5C7C1C17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FC651-6302-45D0-AF3E-3ED47FDF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0E809-1ED0-4F2F-82CB-0571A394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16638-3C16-4623-984A-7B4C61F1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085E8-C341-4B67-B232-CBAB8DF50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50E92-FE45-417A-A100-C34BF7E2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848C-41FB-4FC4-89E6-F89AEE29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3BA1-4F92-4267-ABC8-0498159E1C1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EFF5-520C-4B9C-AB67-5CB5E30D5E4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FDFE-4B9A-46E4-902B-FF90892723B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AA51-F2A3-4ED5-878C-7516A1849BF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B703-1BD8-48BA-84F0-9EA9A4F83F5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4865-698A-4CB0-B552-79299B09EA0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C538-F680-4CC7-8EBB-29F61E8B639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&#1089;entr_nadejda@mail.ru" TargetMode="External"/><Relationship Id="rId2" Type="http://schemas.openxmlformats.org/officeDocument/2006/relationships/hyperlink" Target="mailto:&#1089;entr_nadejda@mail.ru" TargetMode="External"/><Relationship Id="rId3" Type="http://schemas.openxmlformats.org/officeDocument/2006/relationships/hyperlink" Target="http://bir-school9.ru/?p=342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xn--80abf6bcm1g.xn--p1ai/wp-content/uploads/2010/11/ris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истема работы с трудными детьм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2916360" y="5357880"/>
            <a:ext cx="5937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Капустина Людмила Борисовн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МБОУ «Ленская СОШ»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2013 г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5" descr="G:\трудные дети\image.jpg"/>
          <p:cNvPicPr/>
          <p:nvPr/>
        </p:nvPicPr>
        <p:blipFill>
          <a:blip r:embed="rId1"/>
          <a:stretch/>
        </p:blipFill>
        <p:spPr>
          <a:xfrm>
            <a:off x="1285920" y="2286000"/>
            <a:ext cx="3571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Типичные ошибки у учителей в работе с «трудными» подростками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бращаться к ним «Дети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 ещё хуже «Дети! Вы должны…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бращаться к подростку по фамили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ричать, ругаться, передразнивать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рывать злость из-за другого на нём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ритиковать при других учениках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вижения «паразиты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«рукоприкладство»  (толкают, щипают, и т.д.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авила взаимодействия с девиантным ребенком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403280" y="1557360"/>
            <a:ext cx="72072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зитивный настрой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оверительное взаимодействие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убъективность взаимодейств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ыявление причин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следовательность во взаимоотношениях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ощрение положительных изменений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влекательная альтернативность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азумный компромисс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гибкость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ндивидуальный подход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истемность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евентивнос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Командный подход специалистов школы в решении проблем ребенк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6" name="Picture 20" descr="img1"/>
          <p:cNvPicPr/>
          <p:nvPr/>
        </p:nvPicPr>
        <p:blipFill>
          <a:blip r:embed="rId1"/>
          <a:stretch/>
        </p:blipFill>
        <p:spPr>
          <a:xfrm>
            <a:off x="755640" y="2421000"/>
            <a:ext cx="777708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Этапы осуществления коррекционной работы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042920" y="1827360"/>
            <a:ext cx="785016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формулировка социально-психологической и педагогической проблемы;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выдвижение гипотез о причинах девиантного поведения;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диагностический этап;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выбор методов и технологий коррекционной работы;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использование методов, методик и технологий коррекционной работы;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контроль за ходом и эффективностью работы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11617"/>
                </a:solidFill>
                <a:latin typeface="Corbel"/>
              </a:rPr>
              <a:t>Формы и методы работы с «трудными» детьми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785960"/>
            <a:ext cx="7499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оставление социальных паспортов с целью выявления учащихся, имеющих отклонение от норм поведения, морали и прав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абота с детьми и родителя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онтроль за посещением занятий с помощью ведения журнала учета пропусков заняти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Тесная работа с учителями-предметника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офилактика вредных привычек (встреча с инспектором ПДН, прокуратурой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овлечение учащихся дивиантного поведения в различные виды положи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ести журнал на детей, которые состоят на учете, где отражать успеваемость, поведение, результаты бесед с ни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иагностические методи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Методика диагностики склонности к отклоняющемуся поведению (Е.Н. Орел)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Карта наблюдения Стотта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Методика определения индивидуальных копинг-стратегий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Опросники Ахенбаха (для учителей и родителей)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Диагностика социально-педагогической запущенности детей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Методика оценки факторов риска и защиты от наркотиков в образовательном учреждении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И др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3" name="Picture 4" descr="G:\трудные дети\starshy-sjkolny-vozrast.jpg"/>
          <p:cNvPicPr/>
          <p:nvPr/>
        </p:nvPicPr>
        <p:blipFill>
          <a:blip r:embed="rId1"/>
          <a:stretch/>
        </p:blipFill>
        <p:spPr>
          <a:xfrm>
            <a:off x="3357720" y="4500720"/>
            <a:ext cx="3286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пасибо за внимание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00040" y="4429080"/>
            <a:ext cx="7786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БОУ  АО «Центр психолого-педагогической реабилитации и коррекции «Надежда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63069, г. Архангельск, ул. Попова, 43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ел. (8182) 20-18-37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ел./ факс (8182) 20-62-8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айт: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ttp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//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nadejda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1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cg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Е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-mail: 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с</a:t>
            </a:r>
            <a:r>
              <a:rPr b="0" lang="fr-FR" sz="18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entr_nadejda@mail.ru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http://bir-school9.ru/?p=342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Основная школа №9 г. Биробиджана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6" name="Picture 7" descr="Логотип Надежда_итог-11"/>
          <p:cNvPicPr/>
          <p:nvPr/>
        </p:nvPicPr>
        <p:blipFill>
          <a:blip r:embed="rId4"/>
          <a:stretch/>
        </p:blipFill>
        <p:spPr>
          <a:xfrm>
            <a:off x="3143160" y="1285920"/>
            <a:ext cx="288144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Трудный ребёнок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Picture 4" descr="Методы работы с трудными детьм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77000" y="2276640"/>
            <a:ext cx="2846160" cy="4141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0352f12e9f49"/>
          <p:cNvPicPr/>
          <p:nvPr/>
        </p:nvPicPr>
        <p:blipFill>
          <a:blip r:embed="rId3"/>
          <a:stretch/>
        </p:blipFill>
        <p:spPr>
          <a:xfrm>
            <a:off x="395280" y="4005360"/>
            <a:ext cx="3960720" cy="2639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75457203_81903"/>
          <p:cNvPicPr/>
          <p:nvPr/>
        </p:nvPicPr>
        <p:blipFill>
          <a:blip r:embed="rId4"/>
          <a:stretch/>
        </p:blipFill>
        <p:spPr>
          <a:xfrm>
            <a:off x="2124000" y="1557360"/>
            <a:ext cx="34894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Трудный ребенок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369800" y="1827360"/>
            <a:ext cx="384948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ой он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Picture 4" descr="ff962c65118d"/>
          <p:cNvPicPr/>
          <p:nvPr/>
        </p:nvPicPr>
        <p:blipFill>
          <a:blip r:embed="rId1"/>
          <a:stretch/>
        </p:blipFill>
        <p:spPr>
          <a:xfrm>
            <a:off x="4932360" y="1989000"/>
            <a:ext cx="285768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3671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Работы учителей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68360" y="76464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Нормальный среднестатистический ребенок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4" descr="DSC_0001"/>
          <p:cNvPicPr/>
          <p:nvPr/>
        </p:nvPicPr>
        <p:blipFill>
          <a:blip r:embed="rId1"/>
          <a:srcRect l="7290" t="0" r="0" b="0"/>
          <a:stretch/>
        </p:blipFill>
        <p:spPr>
          <a:xfrm>
            <a:off x="755640" y="1557360"/>
            <a:ext cx="3552840" cy="5111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DSC_0003"/>
          <p:cNvPicPr/>
          <p:nvPr/>
        </p:nvPicPr>
        <p:blipFill>
          <a:blip r:embed="rId2"/>
          <a:stretch/>
        </p:blipFill>
        <p:spPr>
          <a:xfrm>
            <a:off x="4641840" y="1557360"/>
            <a:ext cx="3835440" cy="511164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8"/>
          <p:cNvSpPr/>
          <p:nvPr/>
        </p:nvSpPr>
        <p:spPr>
          <a:xfrm>
            <a:off x="3071880" y="1571760"/>
            <a:ext cx="1214280" cy="914400"/>
          </a:xfrm>
          <a:prstGeom prst="rect">
            <a:avLst/>
          </a:prstGeom>
          <a:solidFill>
            <a:srgbClr val="a6a6a6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Прямоугольник 10"/>
          <p:cNvSpPr/>
          <p:nvPr/>
        </p:nvSpPr>
        <p:spPr>
          <a:xfrm>
            <a:off x="7072200" y="1571760"/>
            <a:ext cx="1428840" cy="1285920"/>
          </a:xfrm>
          <a:prstGeom prst="rect">
            <a:avLst/>
          </a:prstGeom>
          <a:solidFill>
            <a:srgbClr val="a6a6a6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496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аботы учителе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5640" y="836640"/>
            <a:ext cx="442584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рудный ребено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Picture 4" descr="DSC_0002"/>
          <p:cNvPicPr/>
          <p:nvPr/>
        </p:nvPicPr>
        <p:blipFill>
          <a:blip r:embed="rId1"/>
          <a:stretch/>
        </p:blipFill>
        <p:spPr>
          <a:xfrm>
            <a:off x="539640" y="1557360"/>
            <a:ext cx="3976920" cy="53006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DSC_0004"/>
          <p:cNvPicPr/>
          <p:nvPr/>
        </p:nvPicPr>
        <p:blipFill>
          <a:blip r:embed="rId2"/>
          <a:stretch/>
        </p:blipFill>
        <p:spPr>
          <a:xfrm>
            <a:off x="4572000" y="1557360"/>
            <a:ext cx="3976560" cy="530064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8"/>
          <p:cNvSpPr/>
          <p:nvPr/>
        </p:nvSpPr>
        <p:spPr>
          <a:xfrm>
            <a:off x="7072200" y="1571760"/>
            <a:ext cx="1428840" cy="1285920"/>
          </a:xfrm>
          <a:prstGeom prst="rect">
            <a:avLst/>
          </a:prstGeom>
          <a:solidFill>
            <a:srgbClr val="a6a6a6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Прямоугольник 9"/>
          <p:cNvSpPr/>
          <p:nvPr/>
        </p:nvSpPr>
        <p:spPr>
          <a:xfrm>
            <a:off x="3071880" y="4286160"/>
            <a:ext cx="1428840" cy="1285920"/>
          </a:xfrm>
          <a:prstGeom prst="rect">
            <a:avLst/>
          </a:prstGeom>
          <a:solidFill>
            <a:srgbClr val="a6a6a6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Характеристики «трудного подростка»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826560" y="1557000"/>
            <a:ext cx="510228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епримиримость к злу, готовность вступить в борьбу с несправедливостью и неумение разобраться в сложных явлениях жизни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тремление к идеалу и негатив к воспитателям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желание самоутвердиться и неумение это сделать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глубокая необходимость в совете — и нежелание обратиться к старшему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отиворечие между богатством желаний и ограниченностью сил, опыта, возможностью для осуществления их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4" descr="G:\трудные дети\alcool-ethylique-112639_L.jpg"/>
          <p:cNvPicPr/>
          <p:nvPr/>
        </p:nvPicPr>
        <p:blipFill>
          <a:blip r:embed="rId1"/>
          <a:stretch/>
        </p:blipFill>
        <p:spPr>
          <a:xfrm>
            <a:off x="5643720" y="2928960"/>
            <a:ext cx="1571400" cy="20718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G:\трудные дети\tv_13114442d4bd3a4177cad5b1499c7f45.jpg"/>
          <p:cNvPicPr/>
          <p:nvPr/>
        </p:nvPicPr>
        <p:blipFill>
          <a:blip r:embed="rId2"/>
          <a:stretch/>
        </p:blipFill>
        <p:spPr>
          <a:xfrm>
            <a:off x="6643800" y="1214280"/>
            <a:ext cx="2333520" cy="17859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G:\трудные дети\i.jpeg"/>
          <p:cNvPicPr/>
          <p:nvPr/>
        </p:nvPicPr>
        <p:blipFill>
          <a:blip r:embed="rId3"/>
          <a:stretch/>
        </p:blipFill>
        <p:spPr>
          <a:xfrm>
            <a:off x="6715080" y="5214960"/>
            <a:ext cx="21909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Характеристики</a:t>
            </a: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«трудного подростка»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28480" y="1356840"/>
            <a:ext cx="442260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казное отрицание авторитетов, увлечение идеальным и сомнение в том, что идеальное может быть в жизни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езрение к эгоизму, индивидуализму и чувствительное самолюбие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желание много знать и поверхностное, легкомысленное отношение к учебе, к своим повседневным заданиям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омантическая восторженность и грубые выходки, моральное невежество, восхищение красотой и ироническое отношение к красот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2" descr="G:\трудные дети\5647bde37cc5842544d19e224e75766f.jpg"/>
          <p:cNvPicPr/>
          <p:nvPr/>
        </p:nvPicPr>
        <p:blipFill>
          <a:blip r:embed="rId1"/>
          <a:stretch/>
        </p:blipFill>
        <p:spPr>
          <a:xfrm>
            <a:off x="5786280" y="1285920"/>
            <a:ext cx="3071880" cy="2286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G:\трудные дети\kurenie-600x400.jpg"/>
          <p:cNvPicPr/>
          <p:nvPr/>
        </p:nvPicPr>
        <p:blipFill>
          <a:blip r:embed="rId2"/>
          <a:stretch/>
        </p:blipFill>
        <p:spPr>
          <a:xfrm>
            <a:off x="5715000" y="4143240"/>
            <a:ext cx="32148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Факторы, влияющие на возникновение девиантного поведения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99640" y="1557360"/>
            <a:ext cx="771228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Биологические факторы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енетические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сихофизиологические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физиологически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сихологические факторы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сихопатологии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кцентуации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оциально-педагогические факторы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чебной декомпенсации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школьной дезадаптации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оциальной дезадаптации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риминализации среды свободного времяпрепровождения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Неблагополучие семьи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исгармоничный стиль воспитательных и внутрисемейных отношений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стабильный, конфликтный стиль воспитательных влияний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социальный стиль отношений в дезорганизованной семье</a:t>
            </a:r>
            <a:r>
              <a:rPr b="0" lang="ru-RU" sz="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43280" y="1571760"/>
            <a:ext cx="414360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«Трудные» дети — это не просто дети, с которыми нам, взрослым, трудно, а это дети, которым трудно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0" name="Picture 2" descr="G:\трудные дети\77106171_large_3437689_smokinggirl_43.jpg"/>
          <p:cNvPicPr/>
          <p:nvPr/>
        </p:nvPicPr>
        <p:blipFill>
          <a:blip r:embed="rId1"/>
          <a:stretch/>
        </p:blipFill>
        <p:spPr>
          <a:xfrm>
            <a:off x="571680" y="642960"/>
            <a:ext cx="3800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3:11:53Z</dcterms:created>
  <dc:creator>Юля</dc:creator>
  <dc:description/>
  <dc:language>en-US</dc:language>
  <cp:lastModifiedBy>uzer</cp:lastModifiedBy>
  <dcterms:modified xsi:type="dcterms:W3CDTF">2013-12-23T22:49:00Z</dcterms:modified>
  <cp:revision>20</cp:revision>
  <dc:subject/>
  <dc:title>Методы работы с трудными детьми</dc:title>
</cp:coreProperties>
</file>